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9002-830A-417E-97DC-05B1F1FEF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CAB0-283A-4686-888B-142CBF7FD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3FF4-0397-44FA-8833-75AB58C66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19F0-C319-4592-8DC7-C496034CE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1B242-4D73-4EAD-8F2F-C65E5BF37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E5F71-1142-4571-9C8B-9AE57CB6A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C93F1-7B48-4F70-BE25-7FB2ABC22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C78BC-0B1D-44EE-B883-2DB0873FB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15EB1-FB05-45F9-9F91-B0D4095D2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03A16-B94E-450C-86FC-A0B2EDBBD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AA5AA-ADD4-423C-B517-05FA620BA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4662-87F4-40F4-B6C0-9CA4680C6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00DA9-C1F7-43E7-9616-0B455E08E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994B5-A4F8-4803-838E-AF3192B4B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94A22-4A20-42C9-B894-73A947D6D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E6F3E-3F2B-45C4-A2A2-11BFD8FB5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28AC9-71D3-40B3-A398-3590E3C45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43B0-A42B-4250-983C-94D6E1530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3D13-C646-40EF-A8DC-8AD040078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7726-E353-4D90-9120-E52DC64E1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F0A3-9D23-4EFE-B0D9-C06367695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267F-37C1-473F-8940-2E2CDB3CA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15D1-E743-4ABF-999D-FB3DAC8BB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1FA6-149D-4694-A9AC-537943403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00007e"/>
                </a:gs>
                <a:gs pos="100000">
                  <a:srgbClr val="00008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0000ac"/>
                </a:gs>
                <a:gs pos="100000">
                  <a:srgbClr val="00008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C2A96-FC03-493C-8265-4994388D804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000072"/>
                </a:gs>
                <a:gs pos="100000">
                  <a:srgbClr val="00008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0000ac"/>
                </a:gs>
                <a:gs pos="100000">
                  <a:srgbClr val="00008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AF7BF-5E3A-480F-B216-A3E89C99C50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8226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ccffff"/>
                </a:solidFill>
                <a:latin typeface="Tahoma"/>
              </a:rPr>
              <a:t>Thursday, December 3rd</a:t>
            </a:r>
            <a:endParaRPr b="0" lang="en-US" sz="45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2133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ahoma"/>
              </a:rPr>
              <a:t>Solve this equation:</a:t>
            </a: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ahoma"/>
              </a:rPr>
              <a:t>2Sinx – 1 = 0</a:t>
            </a: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ccffff"/>
                </a:solidFill>
                <a:latin typeface="Tahoma"/>
              </a:rPr>
              <a:t>Simplifying and Solving Trig Equations</a:t>
            </a:r>
            <a:endParaRPr b="0" lang="en-US" sz="65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2209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You will now need the unit circle (paper #1) and the trig identities (paper #2)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1.  Sec x Cot x = 2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2.  Cosx + Sinx Tanx = 2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898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3.  Sin</a:t>
            </a:r>
            <a:r>
              <a:rPr b="0" lang="en-US" sz="4400" spc="-1" strike="noStrike" baseline="30000">
                <a:solidFill>
                  <a:srgbClr val="ccffff"/>
                </a:solidFill>
                <a:latin typeface="Tahoma"/>
              </a:rPr>
              <a:t>3</a:t>
            </a: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x = Sin x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4.  2Sin</a:t>
            </a:r>
            <a:r>
              <a:rPr b="0" lang="en-US" sz="4400" spc="-1" strike="noStrike" baseline="30000">
                <a:solidFill>
                  <a:srgbClr val="ccffff"/>
                </a:solidFill>
                <a:latin typeface="Tahoma"/>
              </a:rPr>
              <a:t>2</a:t>
            </a: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x – Sin x – 1 = 0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53452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Tahoma"/>
              </a:rPr>
              <a:t>Homework:</a:t>
            </a:r>
            <a:br>
              <a:rPr sz="3600"/>
            </a:br>
            <a:r>
              <a:rPr b="0" lang="en-US" sz="3600" spc="-1" strike="noStrike">
                <a:solidFill>
                  <a:srgbClr val="ccffff"/>
                </a:solidFill>
                <a:latin typeface="Tahoma"/>
              </a:rPr>
              <a:t>Page 400</a:t>
            </a:r>
            <a:br>
              <a:rPr sz="3600"/>
            </a:br>
            <a:r>
              <a:rPr b="0" lang="en-US" sz="3600" spc="-1" strike="noStrike">
                <a:solidFill>
                  <a:srgbClr val="ccffff"/>
                </a:solidFill>
                <a:latin typeface="Tahoma"/>
              </a:rPr>
              <a:t>#25,27,29,39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762120" y="2895480"/>
            <a:ext cx="7162560" cy="30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ints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Tahoma"/>
              <a:buAutoNum type="arabicPeriod" startAt="2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ollect like terms on one side (equal to zero) then factor a GCF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7. Same as 2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Tahoma"/>
              <a:buAutoNum type="arabicPeriod" startAt="2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Get everything on one side (equal to zero) then factor the trinomia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9.  Either turn sec into tan or tan into sec then solv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Questions from homework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(pg 400 #11,13,15,17,19,21,23)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9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ome things to remember…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en taking the square root of both sides, you must include the positive and negative roots of the numb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r priority is to get all the trig functions togeth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t is important to simplify the expression so that you are only dealing with one trig expression (i.e. convert sin/cos to tan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 order to use the zero product property, your equation must equal zero! This is important in quadratic (squared) equa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ccffff"/>
                </a:solidFill>
                <a:latin typeface="Tahoma"/>
              </a:rPr>
              <a:t>Lesson 5.3</a:t>
            </a:r>
            <a:br>
              <a:rPr sz="8500"/>
            </a:br>
            <a:r>
              <a:rPr b="0" lang="en-US" sz="8500" spc="-1" strike="noStrike">
                <a:solidFill>
                  <a:srgbClr val="ccffff"/>
                </a:solidFill>
                <a:latin typeface="Tahoma"/>
              </a:rPr>
              <a:t>part two</a:t>
            </a:r>
            <a:endParaRPr b="0" lang="en-US" sz="85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5T19:41:07Z</dcterms:created>
  <dc:creator>jnewman</dc:creator>
  <dc:description/>
  <dc:language>en-US</dc:language>
  <cp:lastModifiedBy>abeason</cp:lastModifiedBy>
  <dcterms:modified xsi:type="dcterms:W3CDTF">2009-12-03T13:22:26Z</dcterms:modified>
  <cp:revision>12</cp:revision>
  <dc:subject/>
  <dc:title>Lesson 5.3 part three</dc:title>
</cp:coreProperties>
</file>